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1274-5173-4ADE-A81E-A9BF18ADE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0A49-743D-4816-A910-0BA10FE72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DF90-5DC1-40E8-9524-208EA493D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7D91-9EAF-4B79-A3AD-3994BBA24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70C0-3B08-43EF-8238-E974D5439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3DC9-FA98-4827-8CCE-01CD2C45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1B07-9A56-4FD9-A881-A1611E757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825C-A61C-4FB1-AD34-D06BB22CB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B875-263A-4726-AAA2-EC3368365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F2AF-721F-4858-9F41-E348D9A0C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348A-6BE6-493A-BE7E-2400A0D0C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B64-545C-4B99-B196-7D6AF2F2A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6B27-9203-469B-8055-F5ABD35B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1D85-BBC0-40D4-A99E-C6D11FC45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2A9F-DD5B-49D1-970A-49D36C269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0C48-82F3-4546-87AF-A0E4D5EB2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2A2E-EA03-4BDF-97D9-3BD6968E3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AFB8-A249-4CD1-835E-79BA463D1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217A-EE3C-49B2-9BE3-7D040CB59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5AF3-303E-4668-865E-D2DF80FD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3F33-ABBC-4EDD-9756-00C944467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B249-8B0D-4B17-8962-CE764E4BA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07FC-478A-40F0-8D1A-3A6480113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2BD5-86D3-42A4-A4A3-8D9CD4F57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B71A-BBD2-4C25-9845-A8E21CF6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E2AD-5A62-44DD-B907-04F5C9D34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3045-4A61-485E-B956-0427DCAE4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6FC5-2765-4694-AC56-D9C4D25C9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11BC-1D6A-42AA-9CC9-D6346B192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137E-F4D8-4AEF-A698-5118741A5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67F7-6C01-409A-9FBE-30C626F1E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706D-8839-490C-AAB1-627C6B017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68A3-D20D-4435-90CC-7FB47DFF7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347B-58FA-4BC3-A6EC-76655C0C4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882A-677B-4927-9D48-AFD7547DC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6998-8731-4C19-BDE4-059E8F72C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361-0473-4E37-B386-2974293C2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9FE9-4C64-4E58-832B-4BA880A34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D5D5-5B5F-4930-864B-C87912298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4C20-A873-43A2-838A-08C87E316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09F9-892F-4320-B255-9F2E9EBE3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01B1-6632-45FE-B6E2-954F0A97E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00B1-8B82-4E0E-BBD9-07A3AEC70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2048-53BE-4458-9B5E-2CB298BA0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0F6D-B621-47BB-9BE0-0464B9B03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0EE3-68C6-44A6-A7C3-77C9BF78C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1135-C693-45EF-B340-C9381F7B3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8DDA-59E9-4DA4-8627-BB3A499A5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5FD1-091F-4E4D-A4AF-4E48E1223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7911-E1BE-44DF-90E6-D5761164E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007B-047F-4A0B-B6CE-12F06A742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56AD-4608-4F92-8D35-A79DF5706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D5E-E669-40F7-9602-AC2A6EC4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DD3-C4EB-4788-B2CE-D4AA81A6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F7079-08A1-486C-86E1-7B96697A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9388A-0E58-4D8A-9F6B-CD566702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934F9-4B7A-48A7-A5C6-E4307960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F13F6-1A0A-4CA8-B261-45CCE511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83168-74A4-40B1-B774-07EFD60B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0E683-1772-4D7A-8039-A6417DBA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64D54-7458-4A86-B774-599B0230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E937B-28E3-4369-84E0-D53F1A2E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A2C20-0B53-41E7-80BC-31C84434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0F52D-DC0A-4A1C-BDE8-22E79E45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8F9-3A3A-4808-AAFC-07AF99C9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30BD3-580B-4969-988D-13B719C9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23FF4-3C93-4D95-BDAA-072500AD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3A99E-A12D-4C8C-B08B-BF6183E0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3272F-311C-4D1A-A843-86B4DDB2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B7A1F-2B23-4B9E-AE57-AA684180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45740-739E-45BD-B357-C178776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4FACF-876F-43B4-AA98-419DCEAF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D167E-6632-4FA6-9A36-6F099E9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41D96-82A4-41C3-8501-DABF4752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F05D9-004E-4AEE-A344-486B11FD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AAD-2ADD-44D3-9E78-AE05B6C9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440BD-E849-4F53-823D-E242DCD5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FF828-3F6C-4658-8BF2-8FC2EC0F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9FCD2-9886-467B-94AD-6FB432D9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086E4-4016-49D0-B89B-536A754F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31363-1440-4841-BF56-4BC9F946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606CD-AA30-4BDC-BD6D-8C15DA88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27A4A-5A97-495E-BB5F-FE5E0D17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9D4D4-3AE6-47A3-9781-E83BA35E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3A697-A572-45EF-883A-A1E428CE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D8288-C72D-4015-9D35-9093DFA1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1940-E7EC-47FD-B02A-70C1DDB6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B550C-9500-4034-B5E1-D7BA627F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0B706-4CD4-4C33-BD00-1156E38D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1446A-738A-4B0D-84BF-083EA510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64922-EA82-4864-8CF7-1D22DE78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25EE2-660B-418F-AA0C-491BD0BB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3691B-8054-40C5-9B13-C3394F7A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DFA33-24ED-4861-BED2-C1444175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3A62C-A339-424A-99BA-BB04D70F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DA089-AB51-45A3-BE75-EDABDB3D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2AB10-F2CF-4607-BD90-E4AC44A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E093-ED77-4C23-92A5-389CA8C9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0F58D-08E2-48F2-903B-CE2F22F1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88CD9-4C8A-43B8-97C1-333FA658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8E3FD-2953-4B13-AC7F-85EEA746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84FA8-446B-4D18-8B31-0D0C3689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D755F-6CD4-48AD-A1A9-8B6D8EE5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E755-DEE3-4142-AEE3-552ECC81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0B04-AFD8-4AEC-B30B-929CE7B7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334D-E6D0-4FB0-AD4E-B02D285D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252F-2799-48C9-BA7F-02C413BC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5B84-BC3B-4E93-BBD2-75F0C6BA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929-C4A6-47B6-AE65-239406A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BF7E-C7A7-4D73-9D6B-78167206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4481-E782-4C7D-A340-6042887E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EC7D-A511-405B-934F-CEDA18B3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975B-6879-4CB5-9712-DFD6BBA0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6396-874F-4588-841E-414C2422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72E5-C38C-4477-A4AF-CBB0C614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4DD8-989D-4EE5-97C5-9E290BFE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289B-F1D9-4B5C-9EC6-CF6B7B3A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7021-B4F4-43DD-AACE-BC04EF01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6913-9278-4F62-B01C-90D4F1BD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D67-B2F0-4E4C-A6DB-C486F755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D462-BF20-4E42-A90C-009A7F1C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465A-9356-45D6-9149-79F100D5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ABAF-AD64-40D3-81CD-CE11862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F143-DF96-41A2-9099-9CCDCDB3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1980-FFC1-49DA-AFFE-48D6B6C3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4A61-3914-4689-8C3F-BE7CCABC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888D3-8589-4F55-B84B-4BA6675D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8F2B-A5DF-497B-B0FF-77AC767A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D25B-C996-4E30-B0A1-CE05AB2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0C87D-52A3-4A49-AABE-9147E15E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737-8194-46EE-8EFE-F4E50A89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5E2F5-675E-4DB3-8BAD-280F4340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F09C-903F-4BFE-8EC0-6354F9C0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8B7E-5F67-47EA-A035-B9BBAF07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ADA20-8FED-4CAC-B23A-777833B1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F522-1B1C-4BCD-8F7A-80A9A34D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3EF84-8D6B-4879-B935-BFD3E5A9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F992-3D36-4745-8554-056663E0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2CC3D-9756-40B0-9129-9626B04E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E3A1-D192-42E9-AE46-717C3DC6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F94C1-1910-4273-A2ED-519D8F51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438-5553-4AF0-BFC9-504A6542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383DC-24A3-4E0B-A544-5FD2947A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9866B-2EC6-4BE8-B9D8-214BD912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77413-FEDC-49FD-88F9-20D9BB95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26F9-6162-487D-A2BA-E7FE3268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4C2B1-2E99-438B-8DE1-69B46BF3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526ED-6C11-46B9-9C14-71E3D211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72520-6636-4B6F-BEFD-E228AEE0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B7877-3ACF-4E21-BC96-5F7D7B05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B8E3-8928-4703-AF7F-EAA6C878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D0BC5-12F7-437A-BE83-CF8EE333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A1C-6CF3-494F-8516-C9DB9701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86441-21C0-459A-8A94-4BCB1853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D2B60-44CE-4CFA-8B68-D2C09B2F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51146-6AEE-43AB-8CDA-5A472DBD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1D1AB-21C8-48D7-95A3-5C49A741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8F621-0D71-46B0-9054-06D5B377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AD586-702E-4AD5-B573-1A249261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4142-F73A-4698-8212-42010893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E0E48-9853-4245-B8BC-0418588E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521E8-5ED1-4AC6-A96B-DFDCB88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F63F2-9946-4EF8-8FBE-BE534AB7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C60-B672-428C-A13A-42B987D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B5E14-BFAD-4187-93C8-7662D795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CFB17-11ED-4453-AA69-D268B2AF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FE922-C90A-4035-AE40-3895C9C3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4BF37-FBDA-42B0-8162-188D9FD8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CD402-2F45-4297-BD62-425C7DD8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579DB-A5B0-431E-9BE1-108348AD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996FC-4F80-4A5E-94E0-40AC5570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C2783-19B3-4935-8C1B-CF7A41C6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33A88-7F15-4A71-A879-EF4D015F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23758-AB25-4900-99D6-82A96BE6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C8D-8364-4B3B-9DC8-1CC3B1D1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1BA99-470F-4E7D-8000-2650E72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EB604-6681-4B64-8AB4-7657FA31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F2DDD-E245-403D-BD2B-9BBA99D7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FB10D-13C7-4565-B9AE-5A7DCCBD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D636B-6BD1-4E22-BBFE-ED428247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F1B71-0062-4190-9F6C-1D908D1B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82F94-4D09-4A67-85F8-EA71876F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3FA2A-5720-4135-9045-108E8867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3D23E-BBBE-48F0-801D-27491D5F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CB1FD-A9B4-4646-A852-1CE7DCBC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138-20F2-4AE9-8DA6-1695C0CB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22CC1-7962-4558-928A-6D27E629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08002-88EA-4532-8C67-AE715D84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6AEC9-8F3E-4136-8BCD-FBE604D8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23905-C683-4CB1-8CA4-688A5521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F5AB-FCDC-4CF2-9631-69FA644C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F6420-9CC2-496D-9556-67547A13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5C7C-9B10-4CF5-B2E3-BD995EF9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AC2CF-B7B2-447B-9527-049E8E71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8C5C6-670D-4FC8-8C9D-1B79F5B2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F6451-592C-4309-8AD0-E2656B46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2905-8322-4A00-B6E5-637788523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3198-FAE7-4D17-B389-DE6813109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69CB-C041-403A-8A35-64A631CF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DC68-8558-4E13-8D4C-C84A07EC6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4401-D330-4E8A-BD6E-8C54CB2EE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0D77-124C-4670-A1F6-5C6CAC1BD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69E0-7A8E-4B8F-ABB5-E5C3487A6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FC14-7049-4FDB-B3C5-26B17C30A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CE61-E849-467E-B78C-17901F468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CE9-0E27-4EFA-AB41-EC06C9A7C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B7AF-7D0E-48DD-A339-A31E0E69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B7F8-E930-4247-85AA-E594CFF1B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21932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2394" h="21600">
                <a:moveTo>
                  <a:pt x="0" y="0"/>
                </a:moveTo>
                <a:lnTo>
                  <a:pt x="32394" y="0"/>
                </a:lnTo>
                <a:lnTo>
                  <a:pt x="32394" y="21600"/>
                </a:lnTo>
                <a:lnTo>
                  <a:pt x="0" y="21600"/>
                </a:lnTo>
                <a:close/>
              </a:path>
              <a:path fill="lightenLess" w="32394" h="21600">
                <a:moveTo>
                  <a:pt x="0" y="0"/>
                </a:moveTo>
                <a:lnTo>
                  <a:pt x="32394" y="0"/>
                </a:lnTo>
                <a:lnTo>
                  <a:pt x="30994" y="1400"/>
                </a:lnTo>
                <a:lnTo>
                  <a:pt x="1400" y="1400"/>
                </a:lnTo>
                <a:close/>
              </a:path>
              <a:path fill="darken" w="32394" h="21600">
                <a:moveTo>
                  <a:pt x="32394" y="0"/>
                </a:moveTo>
                <a:lnTo>
                  <a:pt x="32394" y="21600"/>
                </a:lnTo>
                <a:lnTo>
                  <a:pt x="30994" y="20200"/>
                </a:lnTo>
                <a:lnTo>
                  <a:pt x="30994" y="1400"/>
                </a:lnTo>
                <a:close/>
              </a:path>
              <a:path fill="darkenLess" w="32394" h="21600">
                <a:moveTo>
                  <a:pt x="32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4" y="20200"/>
                </a:lnTo>
                <a:close/>
              </a:path>
              <a:path fill="lighten" w="32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a’s best 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Steve Ran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who came to visit Ponyboy &amp; Johnny at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D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t Ponyboy and Johnny were tired of 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bol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Ponyboy gets upset about cutting and bleaching his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it is what Greasers are prou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uff, like Sod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upplies Johnny bought at the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bread, peroxide, cards, candy bars, cigarett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one with the W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s the boo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one with the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et of “Nothing Gold Can Sta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Robert Fr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that made Ponyboy, Johnny, and Dally her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aved the kids from the burning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hat Ponyboy new discovers about D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realizes Darry really does love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ny’s idea that surprises Ponyboy &amp; D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is going to turn himself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nditions of Johnny at the end of the chapter – after his heroic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possible broken back &amp; bad bu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teacher who rode in the ambulance with Pony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erry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c who talked to Ponyboy at the Tasty Fre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Randy Add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apop spent most of his time in the hospital entertaining these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the repor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le at the Curtis house if you are the first aw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make break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onyboy said he wanted to do when the reporters asked what he would do right now if he could do any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ake a b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ian of the Curtis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night Ponyboy had his bad nightm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night of his mom &amp; dad’s fu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ny’s unsuspecting visitor (Johnny turned this person away from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ny’s m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Dally requested from Two-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black-handled switch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son Dally is just like, even though they f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Tim Shep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Two-Bit purchased from the drugstore when Johnny requests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one with the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D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lor of eyes Cherry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d a horse named Mickey M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Soda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ed Johnny &amp; Ponyboy h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D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7:04:53Z</dcterms:created>
  <dc:creator>Algona Community High School</dc:creator>
  <dc:description/>
  <cp:keywords/>
  <dc:language>en-US</dc:language>
  <cp:lastModifiedBy>ACSD</cp:lastModifiedBy>
  <dcterms:modified xsi:type="dcterms:W3CDTF">2011-02-24T16:23:54Z</dcterms:modified>
  <cp:revision>57</cp:revision>
  <dc:subject/>
  <dc:title>No Slide Title</dc:title>
</cp:coreProperties>
</file>